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peopleooo.wav" ContentType="audio/x-wav"/>
  <Override PartName="/ppt/media/image1.gif" ContentType="image/gif"/>
  <Override PartName="/ppt/media/highchime.wav" ContentType="audio/x-wav"/>
  <Override PartName="/ppt/media/h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B00-57B7-4474-8B02-B1C1ED9E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DDE-1062-4496-AD1B-2510F525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6B9-FA5F-4AA7-9D2D-A5DB39C2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0B9-65F9-4310-8C69-56E4D508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5AD-5E4E-46FA-BA83-419E8A8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6C3-ECB2-4CD1-BBE4-F9EC53E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8E4-CFBD-47C5-97C0-155EF464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FCD-9C8C-4B99-857E-C6CAB938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D26-E8BE-43C5-8D3E-C0CEEC51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F65-F2BF-4610-8A5C-7070F6D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B6D-661D-483E-8116-3F04CB80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3A7-FCEF-4E07-8357-91CF8587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16D8-E2D3-4B46-ACDB-08F85A99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peopleooo.wav"/><Relationship Id="rId6" Type="http://schemas.openxmlformats.org/officeDocument/2006/relationships/audio" Target="../media/hzipup01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81240" y="114948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43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95840" y="112716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7840" y="71928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7600" y="1762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9840" y="177156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1355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83160" y="17524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54840" y="847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680" y="622440"/>
            <a:ext cx="65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Joshua bought 3 yards of fabric to make a dress. The fabric cost $5.65/yd. The clerk said his total was $14.95 before tax. Did the clerk make a mistake? 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360360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6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5400" y="35812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17640" y="320184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7160" y="421632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9400" y="42260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76440" y="380988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52720" y="420696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5720" y="4948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7600" y="495792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74640" y="4541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1280" y="49388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64280" y="4765680"/>
            <a:ext cx="34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cost between $15 and $1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351480" y="3882960"/>
            <a:ext cx="6098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by using Compatible Numbe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21284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38.9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7400" y="11890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49280" y="192564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71840" y="19652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13160" y="19638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89120" y="628560"/>
            <a:ext cx="743040" cy="1549800"/>
            <a:chOff x="2589120" y="628560"/>
            <a:chExt cx="743040" cy="1549800"/>
          </a:xfrm>
        </p:grpSpPr>
        <p:sp>
          <p:nvSpPr>
            <p:cNvPr id="74" name=""/>
            <p:cNvSpPr/>
            <p:nvPr/>
          </p:nvSpPr>
          <p:spPr>
            <a:xfrm>
              <a:off x="2658960" y="628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70120" y="98712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89120" y="172548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58880" y="1292400"/>
            <a:ext cx="780840" cy="1618200"/>
            <a:chOff x="2558880" y="1292400"/>
            <a:chExt cx="780840" cy="1618200"/>
          </a:xfrm>
        </p:grpSpPr>
        <p:sp>
          <p:nvSpPr>
            <p:cNvPr id="78" name=""/>
            <p:cNvSpPr/>
            <p:nvPr/>
          </p:nvSpPr>
          <p:spPr>
            <a:xfrm>
              <a:off x="2666880" y="17193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80920" y="12924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58880" y="24210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90520" y="310032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82.52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62200" y="306216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401328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60920" y="40226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02240" y="40212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4040" y="2502000"/>
            <a:ext cx="743040" cy="1549800"/>
            <a:chOff x="2894040" y="2502000"/>
            <a:chExt cx="743040" cy="1549800"/>
          </a:xfrm>
        </p:grpSpPr>
        <p:sp>
          <p:nvSpPr>
            <p:cNvPr id="87" name=""/>
            <p:cNvSpPr/>
            <p:nvPr/>
          </p:nvSpPr>
          <p:spPr>
            <a:xfrm>
              <a:off x="2963880" y="250200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75040" y="2860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4040" y="359892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833560" y="3333600"/>
            <a:ext cx="780840" cy="1618200"/>
            <a:chOff x="2833560" y="3333600"/>
            <a:chExt cx="780840" cy="1618200"/>
          </a:xfrm>
        </p:grpSpPr>
        <p:sp>
          <p:nvSpPr>
            <p:cNvPr id="91" name=""/>
            <p:cNvSpPr/>
            <p:nvPr/>
          </p:nvSpPr>
          <p:spPr>
            <a:xfrm>
              <a:off x="2941560" y="37605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55600" y="33336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33560" y="44622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2200320"/>
            <a:ext cx="12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47960" y="21938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1760" y="2222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81280" y="1550880"/>
            <a:ext cx="780840" cy="1618200"/>
            <a:chOff x="2681280" y="1550880"/>
            <a:chExt cx="780840" cy="1618200"/>
          </a:xfrm>
        </p:grpSpPr>
        <p:sp>
          <p:nvSpPr>
            <p:cNvPr id="99" name=""/>
            <p:cNvSpPr/>
            <p:nvPr/>
          </p:nvSpPr>
          <p:spPr>
            <a:xfrm>
              <a:off x="2789280" y="197784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03320" y="155088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81280" y="2679480"/>
              <a:ext cx="625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3680" y="622440"/>
            <a:ext cx="8950320" cy="2104920"/>
            <a:chOff x="193680" y="622440"/>
            <a:chExt cx="8950320" cy="2104920"/>
          </a:xfrm>
        </p:grpSpPr>
        <p:sp>
          <p:nvSpPr>
            <p:cNvPr id="103" name=""/>
            <p:cNvSpPr/>
            <p:nvPr/>
          </p:nvSpPr>
          <p:spPr>
            <a:xfrm>
              <a:off x="193680" y="622440"/>
              <a:ext cx="8950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5.  Is 3.29 a reasonable quotient for                    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	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31.423      5.94?  Explain.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2873520" y="1395360"/>
                  <a:ext cx="6220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1865160" y="4125960"/>
            <a:ext cx="34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been closer to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52720" y="3243240"/>
            <a:ext cx="6094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538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ge 129, 3 – 2 #1-9, 10-3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actice 3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3T11:16:57Z</dcterms:modified>
  <cp:revision>54</cp:revision>
  <dc:subject/>
  <dc:title>Slide 1</dc:title>
</cp:coreProperties>
</file>